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6E2-FC3B-4AA0-94DB-AC305BD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CDA-ED76-47E4-B35A-084BB93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995-17B7-49E3-A9FA-C1012423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B01-7867-419D-BF35-FC53ABCD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CB2-F23B-4E70-BC3B-DB36CF2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1C2-E2C2-465D-9894-AECA702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4A4-B656-4179-B795-F04AEBC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89-D8CD-4EDA-94B2-C9451E09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A03-3150-4FB5-827B-C0E76A0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CF6-73FC-4E76-8B0E-3D8CAB8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D99-D70E-4EC7-B274-BBF76E3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278-710E-4A51-B26A-350385F9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B001-4A12-418C-A930-228C62B7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kezelé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telepítése, és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elesítés megvaló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mód kivál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ndows hitel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gyes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alósítás lépés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lenőrizzük, hogy megbízható kapcsolatokat használunk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ítsuk be a hitelesítési mó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ítsuk le, majd indítsuk újra az MSSQLServer szolgáltat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zzuk létre Windows csoportokat és felhasznál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almazzuk fel őket az SQL Server elér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zzuk létre SQL Server bejelentkezési fiókokat a nem megbízható kapcsolattal rendelkező felhasználó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jelentkezési fiókok létreh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indows fiók hozzá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grantlogin {‘bejelentkezési_név’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QL Server fiók hozzá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addlogin {‘bejelentkezési_név’}[,’ jelszó’[,’ adatbázis’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_password segítségével lehet jelszót változta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jelentkezési fiók hozzárendelése felhasználói fiókokho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adatbázishoz felhasználói fiókot szeretnénk hozzáadni, használhatjuk az SQL Server Enterprise Manager segédprogramot, vagy végrehajthatjuk az  sp_grantdbacces rendszerszintű tárolt eljár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t csak az adatbázis tulajdonosa, vagy a hozzáférést felügyelő személy teheti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zerepközök hozzáadása és elvét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á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addsrvrolemember bejelentkezési_név, szerepkő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: EXEC sp_addsrvrolemember ‘béla’,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távol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dropsrvrol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ítés me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Server változ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epítési mód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ítési beállí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epítés ellenőr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el Pentium 166-megahertz (MHz) vagy gyos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Enterprise Edition and Standard Edi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Windows Server 2003 Standard Edition, Windows Server 2003 Enterprise Edition, Windows Server 2003 Datacenter Edition ,Windows® 2000 Server , Windows 2000 Advanced Server, Windows 2000 Datacenter Server ,Windows NT® Server version 4.0 with Service Pack 5 (SP5) or later ,Windows NT Server 4.0, Enterprise Edition, with SP5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Evaluation Edition and Developer Edi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fentieken kívül Windows XP Professional ,Windows XP Home Edition ,Windows 2000 Professional ,Windows NT Workstation 4.0 with SP5 or lat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Personal Edition2 and SQL Server 2000 Desktop Engine (MSDE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fentieken kívül Windows Server 2003, Web Edition1 (MSDE only) ,Windows 98 ,Windows Millennium Edition (Windows M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terprise Edition: 64 megabytes (MB) of RAM; 128 MB ajánl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ndard Edition: 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aluation Edition: 64 MB; 128 MB ajánl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veloper Edition: 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rsonal Edition: 128 MB Windows XP esetén; 64 MB Windows 2000 esetén; 32 MB egyéb Op. Rendszer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DE: 128 MB Windows XP esetén; 64 MB Windows 2000 esetén; 32 MB egyéb eset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Server válto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terpris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ndard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vaulation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veloper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ersonal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S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elepíté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kásos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éni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2781360"/>
          <a:ext cx="8064360" cy="3600360"/>
        </p:xfrm>
        <a:graphic>
          <a:graphicData uri="http://schemas.openxmlformats.org/drawingml/2006/table">
            <a:tbl>
              <a:tblPr/>
              <a:tblGrid>
                <a:gridCol w="3816360"/>
                <a:gridCol w="1439640"/>
                <a:gridCol w="1224000"/>
                <a:gridCol w="158436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ítési beáll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kás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bázis - kiszolgál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sítő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e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szörözés támoga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jes szövegben történő keres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gyfélkezelő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e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gyfélkapcsolato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dokumentác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ítési beállí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epítési útv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fájlok : adatbázismotor és egyéb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fájlok: rendszer- és minta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kész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sznált nyelvet támogató karakterkészletet kell megadni, az összes adatbázis használni fog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tólagos módosítás esetén az összes adatbázis újra kell telep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zési sor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lózati támog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med Pipes, TCP/IP, Multiprotocol stb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elepítés ellenőr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lepítés eredményeinek áttekin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ő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értelmezett biztonsági 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lgáltatások ind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tlakozás az SQL server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Query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védelem kez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elesítés megvaló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jelentkezési fiók hozzárendelése felhasználókhoz és szerepkörökhö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délyek hozzárendelése felhasználókhoz és szerepkörökhö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ztonság terv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6:50:03Z</dcterms:created>
  <dc:creator>Nagymáté Péter</dc:creator>
  <dc:description/>
  <dc:language>en-US</dc:language>
  <cp:lastModifiedBy>Nagymáté Péter</cp:lastModifiedBy>
  <dcterms:modified xsi:type="dcterms:W3CDTF">2004-09-16T08:31:49Z</dcterms:modified>
  <cp:revision>4</cp:revision>
  <dc:subject/>
  <dc:title>Adatbázis kezelés II.</dc:title>
</cp:coreProperties>
</file>